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F5F-9B6B-4373-8527-5CEE4888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81-9BA5-4887-A75E-4519E558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E36-C500-4BDB-9361-D666ABAF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65C-4C38-4183-A11E-D02E5AE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2EB-0F58-4B32-AED2-8D4A85EC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271-EC46-4F17-A1C0-F64C6D43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D22-6D5D-4D32-898A-26EDE61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6CB-7CFA-433D-81CF-295579E5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CEE-52E5-4C7D-856F-9C9B333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1B3-F922-4318-9E08-0831662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0F5-6389-4E82-9AB4-F86F298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842-48E6-4748-B9FC-F3D0D96F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4D29-60E7-4D7F-AC11-5F0BE7C1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Papyrus"/>
              </a:rPr>
              <a:t>La rutina de la mapache, Daquanda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Nomb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Tiffany Brou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Madeline Rober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5688600">
            <a:off x="2908800" y="4920120"/>
            <a:ext cx="1390680" cy="248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24335E-006 C -0.00382 0.01527 -0.01094 0.02892 -0.01528 0.04396 C -0.0184 0.0657 -0.02118 0.09716 -0.00937 0.11613 C -0.00764 0.1189 -0.00434 0.11983 -0.00243 0.12214 C 0.00816 0.13648 0.01667 0.14967 0.02934 0.16008 C 0.06146 0.18622 0.09445 0.21444 0.1283 0.23665 C 0.14688 0.24937 0.16684 0.25862 0.18472 0.27273 C 0.20851 0.2917 0.23872 0.31877 0.25764 0.34814 C 0.27361 0.37289 0.27917 0.40343 0.28698 0.43281 C 0.29566 0.46496 0.30712 0.49573 0.31528 0.52834 C 0.31771 0.55841 0.32309 0.58664 0.32708 0.61624 C 0.32917 0.66089 0.33038 0.66922 0.32465 0.73052 C 0.32274 0.75064 0.28889 0.7828 0.28004 0.79159 C 0.26424 0.80685 0.24844 0.82721 0.22934 0.83531 C 0.18507 0.8552 0.13733 0.86815 0.09184 0.88273 C 0.05052 0.89591 0.0507 0.89568 0.01059 0.89984 C -0.0125 0.90216 -0.05885 0.90609 -0.05885 0.90609 C -0.09965 0.90516 -0.14045 0.90632 -0.18125 0.90308 C -0.25156 0.8973 -0.3151 0.82143 -0.36823 0.76822 C -0.37569 0.76082 -0.38455 0.7555 -0.39184 0.74763 C -0.41267 0.72612 -0.44687 0.67384 -0.45885 0.63799 C -0.46076 0.61092 -0.46337 0.59866 -0.45885 0.56882 C -0.45538 0.54523 -0.44253 0.52302 -0.43177 0.50475 C -0.40208 0.45409 -0.35764 0.42564 -0.30937 0.4217 C -0.27205 0.41523 -0.2342 0.42309 -0.19653 0.42494 C -0.10642 0.44692 -0.14583 0.4416 -0.07882 0.44692 C -0.04028 0.45339 -0.00226 0.45617 0.03646 0.45779 C 0.07136 0.45617 0.10642 0.45733 0.14115 0.45316 C 0.1467 0.45224 0.15122 0.44645 0.15642 0.44368 C 0.16181 0.44067 0.16754 0.43905 0.17292 0.43581 C 0.22726 0.4025 0.26233 0.33866 0.30243 0.28222 C 0.32014 0.25723 0.33229 0.24197 0.34462 0.21328 C 0.34306 0.19917 0.34236 0.17373 0.33524 0.16008 C 0.31094 0.11335 0.27778 0.08143 0.24358 0.04858 C 0.21476 0.02106 0.18403 -0.00346 0.14826 -0.00925 C 0.13351 -0.01411 0.11962 -0.02266 0.10469 -0.0266 C 0.08559 -0.03145 0.06354 -0.03284 0.04358 -0.03446 C -0.06007 -0.03377 -0.15729 -0.03608 -0.25885 -0.02498 C -0.33229 -0.0037 -0.41076 0.03054 -0.45295 0.11914 C -0.46684 0.19593 -0.46111 0.15013 -0.45885 0.27921 C -0.45746 0.36179 -0.41337 0.42101 -0.35417 0.43905 C -0.31944 0.44969 -0.26771 0.44484 -0.23646 0.4453 C -0.18038 0.44599 -0.1243 0.44645 -0.06823 0.44692 C -0.0118 0.4453 0.03004 0.44738 0.08125 0.43743 C 0.1 0.4379 0.11892 0.43651 0.13767 0.43905 C 0.14167 0.43952 0.14462 0.4446 0.14826 0.44692 C 0.1559 0.45178 0.16493 0.45409 0.1717 0.46103 C 0.19288 0.48323 0.2132 0.50405 0.22934 0.53297 C 0.23281 0.54939 0.23594 0.56466 0.23767 0.58155 C 0.23646 0.59704 0.23611 0.61324 0.23403 0.6285 C 0.23195 0.64447 0.2184 0.65927 0.21059 0.66945 C 0.16337 0.7289 0.11684 0.72126 0.05417 0.72265 C 0.04757 0.72242 -0.07864 0.71733 -0.12118 0.7134 C -0.1283 0.71271 -0.13542 0.71178 -0.14236 0.71016 C -0.15729 0.70692 -0.18698 0.69929 -0.18698 0.69929 C -0.19549 0.69489 -0.23038 0.67963 -0.24236 0.66621 C -0.26458 0.64146 -0.27604 0.61717 -0.29062 0.58478 C -0.30121 0.52834 -0.3059 0.46936 -0.28594 0.41546 C -0.28125 0.4032 -0.27569 0.3914 -0.27066 0.37937 C -0.26632 0.36896 -0.26042 0.36063 -0.25538 0.35115 C -0.25382 0.34814 -0.25052 0.3419 -0.25052 0.3419 C -0.24896 0.33542 -0.24722 0.32571 -0.24479 0.31992 C -0.23507 0.29517 -0.21371 0.26117 -0.1941 0.25215 C -0.18524 0.24058 -0.16667 0.23225 -0.16007 0.21953 C -0.15503 0.21004 -0.14983 0.1957 -0.14583 0.18506 C -0.14392 0.17095 -0.13889 0.158 -0.13299 0.14597 C -0.13108 0.13579 -0.12795 0.13024 -0.12361 0.12214 C -0.11371 0.10433 -0.12674 0.12584 -0.11996 0.11127 C -0.11371 0.09762 -0.1092 0.09184 -0.09878 0.08467 C -0.09219 0.07125 -0.0809 0.06408 -0.06944 0.06131 C -0.0566 0.05413 -0.04305 0.05205 -0.02934 0.0502 C -0.03108 0.02476 -0.02726 0.03308 -0.03889 0.03308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Maiandra GD"/>
              </a:rPr>
              <a:t>LA MA</a:t>
            </a:r>
            <a:r>
              <a:rPr b="0" lang="en-US" sz="4400" spc="-1" strike="noStrike">
                <a:solidFill>
                  <a:srgbClr val="bbe0e3"/>
                </a:solidFill>
                <a:latin typeface="Maiandra GD"/>
                <a:ea typeface="Arial"/>
              </a:rPr>
              <a:t>Ñ</a:t>
            </a:r>
            <a:r>
              <a:rPr b="0" lang="en-US" sz="4400" spc="-1" strike="noStrike">
                <a:solidFill>
                  <a:srgbClr val="bbe0e3"/>
                </a:solidFill>
                <a:latin typeface="Maiandra GD"/>
              </a:rPr>
              <a:t>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Por la ma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  <a:ea typeface="Arial"/>
              </a:rPr>
              <a:t>ñ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ana, Daquanda se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despierta. Se despierta a las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nueve de la ma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  <a:ea typeface="Arial"/>
              </a:rPr>
              <a:t>ñ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ana. No s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Maiandra GD"/>
              </a:rPr>
              <a:t>levanta enseguida. Se levanta a las dos de la tarde.</a:t>
            </a:r>
            <a:r>
              <a:rPr b="0" lang="en-US" sz="3200" spc="-1" strike="noStrike">
                <a:solidFill>
                  <a:srgbClr val="bbe0e3"/>
                </a:solidFill>
                <a:latin typeface="Maiandra G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890800">
            <a:off x="527040" y="321840"/>
            <a:ext cx="2230560" cy="3353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840600">
            <a:off x="4343400" y="438300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1240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oper Black"/>
              </a:rPr>
              <a:t>LA MAÑ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Daquanda se sienta a la mesa. Se  desayuna. Come </a:t>
            </a:r>
            <a:r>
              <a:rPr b="1" lang="es-ES" sz="3200" spc="-1" strike="noStrike">
                <a:solidFill>
                  <a:srgbClr val="663300"/>
                </a:solidFill>
                <a:latin typeface="Cooper Black"/>
              </a:rPr>
              <a:t>magdalenas de vainilla con </a:t>
            </a: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azúcar glaceado de chocolate. Si ella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mucho, ella se convi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oper Black"/>
              </a:rPr>
              <a:t>gor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524000">
            <a:off x="5695920" y="3809880"/>
            <a:ext cx="3448080" cy="2316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403000">
            <a:off x="1371240" y="4723920"/>
            <a:ext cx="2514600" cy="17100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Elephant"/>
              </a:rPr>
              <a:t>LA MAÑ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Ella se lava los 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con uno cepillo de 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y un tubo de pasta. Lue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ella se pone la ropa. Se p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un traje porque ella tra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para Ellen Degene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                       </a:t>
            </a:r>
            <a:r>
              <a:rPr b="0" lang="en-US" sz="3200" spc="-1" strike="noStrike">
                <a:solidFill>
                  <a:srgbClr val="000066"/>
                </a:solidFill>
                <a:latin typeface="Elephant"/>
              </a:rPr>
              <a:t>Tambien lleva los te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910800">
            <a:off x="6095520" y="1523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3040200">
            <a:off x="685764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5810400"/>
            <a:ext cx="121932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flipH="1">
            <a:off x="2209320" y="5810400"/>
            <a:ext cx="1143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L 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aquanda va a trabajar. Va a su trabajo en u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carro. No mira la c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porque no es buena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manejar. Cuando llega a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trabajo, se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maquillaj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año. Luego, pone el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ma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quill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en Ellen Degen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Necesita faxiar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                              </a:t>
            </a:r>
            <a:r>
              <a:rPr b="0" lang="es-ES" sz="2800" spc="-1" strike="noStrike">
                <a:solidFill>
                  <a:srgbClr val="6600cc"/>
                </a:solidFill>
                <a:latin typeface="Comic Sans MS"/>
              </a:rPr>
              <a:t>Opra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141800">
            <a:off x="5866920" y="2286000"/>
            <a:ext cx="2895840" cy="192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21003600">
            <a:off x="228240" y="457200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912000">
            <a:off x="5866920" y="480024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urlz MT"/>
              </a:rPr>
              <a:t>LA TA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Daquanda volvia a casa. Se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</a:rPr>
              <a:t>ba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ña. No se ducha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usa champú porque ella es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mapache. Lugeo, ella es blan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porque ella se bañ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muy bien. El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cepilla el pelo.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se afeita po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                   </a:t>
            </a:r>
            <a:r>
              <a:rPr b="0" lang="en-US" sz="3200" spc="-1" strike="noStrike">
                <a:solidFill>
                  <a:srgbClr val="99ccff"/>
                </a:solidFill>
                <a:latin typeface="Curlz MT"/>
                <a:ea typeface="Arial"/>
              </a:rPr>
              <a:t>necesita su p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72200" y="24382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72200" y="472428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20337000">
            <a:off x="6019920" y="4800240"/>
            <a:ext cx="1523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LA NO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Se mira en el espejo antes de dormir porque ella es loca. Se acuesta a las dos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ma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  <a:ea typeface="Arial"/>
              </a:rPr>
              <a:t>ñ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ana. Se due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enseguida. Ella ti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sue</a:t>
            </a:r>
            <a:r>
              <a:rPr b="0" lang="en-US" sz="3200" spc="-1" strike="noStrike">
                <a:solidFill>
                  <a:srgbClr val="ffffff"/>
                </a:solidFill>
                <a:latin typeface="Forte"/>
                <a:ea typeface="Arial"/>
              </a:rPr>
              <a:t>ños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extrañ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Necesita tu cara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BUEN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NOC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            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Forte"/>
              </a:rPr>
              <a:t>DAQU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86600" y="2133720"/>
            <a:ext cx="170028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24080" y="491508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860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4:31:28Z</dcterms:created>
  <dc:creator>robertsonmad</dc:creator>
  <dc:description/>
  <dc:language>en-US</dc:language>
  <cp:lastModifiedBy>robertsonmad</cp:lastModifiedBy>
  <dcterms:modified xsi:type="dcterms:W3CDTF">2012-04-05T13:20:57Z</dcterms:modified>
  <cp:revision>10</cp:revision>
  <dc:subject/>
  <dc:title>La rutina de la mapache, Daquanda.</dc:title>
</cp:coreProperties>
</file>